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D94-1F65-4047-867B-89D8A068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43F-897D-4FFA-B01D-3ED0C7C1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A0A-F3BC-4B7C-8035-CCB3E9D7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D0E-310F-4E87-83B9-D16CF45D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666-6B06-4FDB-A138-71A75369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49C-C9E9-4D82-9A2D-DE58ECE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626-82C4-4CD1-8CAF-BC385F4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E63-E672-42C0-A27F-E80177A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83B-6F6A-40BE-BFA8-4816D3F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365-F314-45B8-BE23-7E5284D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770-71B6-43F4-B636-1BCFA0F3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08C-7D3F-4AD6-BE67-1E43C94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F61-CA53-48C4-ACC3-1C30C5808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50920" y="57168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与钢相比，灰口铸铁具有哪些显著的性能特点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强度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塑性和韧性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铸造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切削加工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耐磨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良好的消振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较低的缺口敏感性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50920" y="18900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根据石墨的形态和石墨片的大小不同，灰口铸铁分哪几种？并分别指出石墨形态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普通灰口铸铁，石墨呈片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可锻铸铁，石墨呈团絮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球墨铸铁，石墨呈球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蠕墨铸铁，石墨呈蠕虫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79280" y="388800"/>
            <a:ext cx="885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简述巴氏合金的分类及其组织结构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分类：锡基巴氏合金、铅基巴氏合金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组织结构：软基体上分布硬质点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79280" y="2471760"/>
            <a:ext cx="885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与碳素钢相比较，合金钢具有哪些显著特点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淬透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强度和屈强比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高温强度和回火抗力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特殊的物理化学性能，如耐热、耐磨、耐腐蚀性等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24000" y="11592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金属的晶粒越细，其强度和硬度越高、塑性和韧性越好，简单叙述其原因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金属的晶粒越细，其强度和硬度也越高，因为在相同的体积内，晶粒越细小，晶界的总面积就越大，对晶粒塑性变形抗力就越大，同时每个晶粒周围的不同方位的晶粒数也越多，对晶粒塑性变形的约束和阻碍越大。所以晶粒越小对塑性变形的抗力也越高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金属的晶粒越细，其塑性和韧性越好。因为晶粒越细小，在相同体积内的晶粒数量就越多。在外力作用下参与塑性变形的晶粒数目越多，塑性变形分布于更多的晶粒内，所以变形均匀，不会造成局部应力集中而引起裂纹，仅使金属产生塑性变形而不破坏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8000" y="115920"/>
            <a:ext cx="8891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①画出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e-Fe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合金相图，并标注主要特征点的成分、以及各区的相构成；②分析从液态到室温过程中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钢的结晶过程；③结合该相图说明随着含碳量的增大，具有平衡组织铁碳合金的强度、硬度、塑性和韧性是如何变化的。（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1"/>
          <p:cNvGrpSpPr/>
          <p:nvPr/>
        </p:nvGrpSpPr>
        <p:grpSpPr>
          <a:xfrm>
            <a:off x="179280" y="1538280"/>
            <a:ext cx="4397400" cy="3043080"/>
            <a:chOff x="179280" y="1538280"/>
            <a:chExt cx="4397400" cy="3043080"/>
          </a:xfrm>
        </p:grpSpPr>
        <p:sp>
          <p:nvSpPr>
            <p:cNvPr id="48" name="AutoShape 42"/>
            <p:cNvSpPr/>
            <p:nvPr/>
          </p:nvSpPr>
          <p:spPr>
            <a:xfrm>
              <a:off x="179280" y="1538280"/>
              <a:ext cx="439740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9" name="AutoShape 41"/>
            <p:cNvCxnSpPr/>
            <p:nvPr/>
          </p:nvCxnSpPr>
          <p:spPr>
            <a:xfrm flipH="1" flipV="1">
              <a:off x="422640" y="1702800"/>
              <a:ext cx="3600" cy="245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" name="Text Box 40"/>
            <p:cNvSpPr/>
            <p:nvPr/>
          </p:nvSpPr>
          <p:spPr>
            <a:xfrm>
              <a:off x="179280" y="1538280"/>
              <a:ext cx="257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温度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39"/>
            <p:cNvSpPr/>
            <p:nvPr/>
          </p:nvSpPr>
          <p:spPr>
            <a:xfrm>
              <a:off x="448920" y="330624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38"/>
            <p:cNvSpPr/>
            <p:nvPr/>
          </p:nvSpPr>
          <p:spPr>
            <a:xfrm>
              <a:off x="1938600" y="4345920"/>
              <a:ext cx="493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成分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3" name="AutoShape 37"/>
            <p:cNvCxnSpPr/>
            <p:nvPr/>
          </p:nvCxnSpPr>
          <p:spPr>
            <a:xfrm flipV="1">
              <a:off x="427320" y="4139280"/>
              <a:ext cx="355176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Text Box 36"/>
            <p:cNvSpPr/>
            <p:nvPr/>
          </p:nvSpPr>
          <p:spPr>
            <a:xfrm>
              <a:off x="4049640" y="3319200"/>
              <a:ext cx="473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AutoShape 35"/>
            <p:cNvCxnSpPr/>
            <p:nvPr/>
          </p:nvCxnSpPr>
          <p:spPr>
            <a:xfrm flipH="1" flipV="1">
              <a:off x="3977640" y="1693800"/>
              <a:ext cx="3600" cy="245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AutoShape 34"/>
            <p:cNvCxnSpPr/>
            <p:nvPr/>
          </p:nvCxnSpPr>
          <p:spPr>
            <a:xfrm>
              <a:off x="1553400" y="2516040"/>
              <a:ext cx="242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AutoShape 33"/>
            <p:cNvCxnSpPr/>
            <p:nvPr/>
          </p:nvCxnSpPr>
          <p:spPr>
            <a:xfrm flipV="1">
              <a:off x="614880" y="3422880"/>
              <a:ext cx="337212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Freeform 32"/>
            <p:cNvSpPr/>
            <p:nvPr/>
          </p:nvSpPr>
          <p:spPr>
            <a:xfrm>
              <a:off x="428040" y="1782000"/>
              <a:ext cx="2266920" cy="73656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3570" h="1160">
                  <a:moveTo>
                    <a:pt x="0" y="0"/>
                  </a:moveTo>
                  <a:cubicBezTo>
                    <a:pt x="262" y="50"/>
                    <a:pt x="975" y="107"/>
                    <a:pt x="1570" y="300"/>
                  </a:cubicBezTo>
                  <a:cubicBezTo>
                    <a:pt x="2165" y="493"/>
                    <a:pt x="3153" y="981"/>
                    <a:pt x="3570" y="1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>
              <a:off x="2700720" y="2180880"/>
              <a:ext cx="1276200" cy="33624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010" h="530">
                  <a:moveTo>
                    <a:pt x="0" y="530"/>
                  </a:moveTo>
                  <a:cubicBezTo>
                    <a:pt x="322" y="395"/>
                    <a:pt x="644" y="261"/>
                    <a:pt x="979" y="173"/>
                  </a:cubicBezTo>
                  <a:cubicBezTo>
                    <a:pt x="1314" y="85"/>
                    <a:pt x="1662" y="42"/>
                    <a:pt x="20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009800" y="2518560"/>
              <a:ext cx="548640" cy="91404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864" h="1440">
                  <a:moveTo>
                    <a:pt x="864" y="0"/>
                  </a:moveTo>
                  <a:cubicBezTo>
                    <a:pt x="684" y="129"/>
                    <a:pt x="504" y="258"/>
                    <a:pt x="360" y="498"/>
                  </a:cubicBezTo>
                  <a:cubicBezTo>
                    <a:pt x="216" y="738"/>
                    <a:pt x="108" y="1089"/>
                    <a:pt x="0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426960" y="1787040"/>
              <a:ext cx="1135080" cy="731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1788" h="1152">
                  <a:moveTo>
                    <a:pt x="0" y="0"/>
                  </a:moveTo>
                  <a:cubicBezTo>
                    <a:pt x="373" y="159"/>
                    <a:pt x="746" y="318"/>
                    <a:pt x="1044" y="510"/>
                  </a:cubicBezTo>
                  <a:cubicBezTo>
                    <a:pt x="1342" y="702"/>
                    <a:pt x="1565" y="927"/>
                    <a:pt x="1788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426960" y="3063240"/>
              <a:ext cx="582840" cy="36540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918" h="576">
                  <a:moveTo>
                    <a:pt x="918" y="576"/>
                  </a:moveTo>
                  <a:cubicBezTo>
                    <a:pt x="837" y="534"/>
                    <a:pt x="585" y="418"/>
                    <a:pt x="432" y="322"/>
                  </a:cubicBezTo>
                  <a:cubicBezTo>
                    <a:pt x="279" y="226"/>
                    <a:pt x="90" y="6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7"/>
            <p:cNvSpPr/>
            <p:nvPr/>
          </p:nvSpPr>
          <p:spPr>
            <a:xfrm>
              <a:off x="423000" y="3063240"/>
              <a:ext cx="194400" cy="36936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306" h="582">
                  <a:moveTo>
                    <a:pt x="306" y="582"/>
                  </a:moveTo>
                  <a:cubicBezTo>
                    <a:pt x="281" y="548"/>
                    <a:pt x="207" y="475"/>
                    <a:pt x="156" y="378"/>
                  </a:cubicBezTo>
                  <a:cubicBezTo>
                    <a:pt x="105" y="281"/>
                    <a:pt x="32" y="79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448920" y="3432960"/>
              <a:ext cx="166320" cy="70956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62" h="1118">
                  <a:moveTo>
                    <a:pt x="262" y="0"/>
                  </a:moveTo>
                  <a:cubicBezTo>
                    <a:pt x="235" y="55"/>
                    <a:pt x="141" y="144"/>
                    <a:pt x="97" y="330"/>
                  </a:cubicBezTo>
                  <a:cubicBezTo>
                    <a:pt x="53" y="516"/>
                    <a:pt x="20" y="954"/>
                    <a:pt x="0" y="1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25"/>
            <p:cNvSpPr/>
            <p:nvPr/>
          </p:nvSpPr>
          <p:spPr>
            <a:xfrm>
              <a:off x="4039560" y="2415600"/>
              <a:ext cx="473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48℃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603360" y="254880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23"/>
            <p:cNvSpPr/>
            <p:nvPr/>
          </p:nvSpPr>
          <p:spPr>
            <a:xfrm>
              <a:off x="590040" y="325548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+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1418760" y="210204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+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2552400" y="180540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20"/>
            <p:cNvSpPr/>
            <p:nvPr/>
          </p:nvSpPr>
          <p:spPr>
            <a:xfrm>
              <a:off x="2234160" y="2892960"/>
              <a:ext cx="513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19"/>
            <p:cNvSpPr/>
            <p:nvPr/>
          </p:nvSpPr>
          <p:spPr>
            <a:xfrm>
              <a:off x="1922760" y="3687840"/>
              <a:ext cx="513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3348000" y="2280960"/>
              <a:ext cx="5137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3" name="AutoShape 17"/>
            <p:cNvCxnSpPr/>
            <p:nvPr/>
          </p:nvCxnSpPr>
          <p:spPr>
            <a:xfrm>
              <a:off x="615240" y="3432960"/>
              <a:ext cx="3600" cy="70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4" name="Text Box 16"/>
            <p:cNvSpPr/>
            <p:nvPr/>
          </p:nvSpPr>
          <p:spPr>
            <a:xfrm>
              <a:off x="49896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" name="AutoShape 15"/>
            <p:cNvCxnSpPr/>
            <p:nvPr/>
          </p:nvCxnSpPr>
          <p:spPr>
            <a:xfrm>
              <a:off x="1010160" y="3432960"/>
              <a:ext cx="3600" cy="70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6" name="Text Box 14"/>
            <p:cNvSpPr/>
            <p:nvPr/>
          </p:nvSpPr>
          <p:spPr>
            <a:xfrm>
              <a:off x="87552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7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AutoShape 13"/>
            <p:cNvCxnSpPr/>
            <p:nvPr/>
          </p:nvCxnSpPr>
          <p:spPr>
            <a:xfrm>
              <a:off x="798840" y="1682280"/>
              <a:ext cx="5760" cy="2581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Text Box 12"/>
            <p:cNvSpPr/>
            <p:nvPr/>
          </p:nvSpPr>
          <p:spPr>
            <a:xfrm>
              <a:off x="142812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AutoShape 11"/>
            <p:cNvCxnSpPr/>
            <p:nvPr/>
          </p:nvCxnSpPr>
          <p:spPr>
            <a:xfrm>
              <a:off x="2696400" y="2523240"/>
              <a:ext cx="3600" cy="1617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80" name="Text Box 10"/>
            <p:cNvSpPr/>
            <p:nvPr/>
          </p:nvSpPr>
          <p:spPr>
            <a:xfrm>
              <a:off x="2627280" y="417888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3795120" y="417888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6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8008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4062960" y="4172400"/>
              <a:ext cx="5133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850320" y="165672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>
              <a:off x="841320" y="198720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850320" y="315972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3"/>
            <p:cNvSpPr/>
            <p:nvPr/>
          </p:nvSpPr>
          <p:spPr>
            <a:xfrm>
              <a:off x="841320" y="341064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2"/>
            <p:cNvSpPr/>
            <p:nvPr/>
          </p:nvSpPr>
          <p:spPr>
            <a:xfrm>
              <a:off x="730440" y="430020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Box 46"/>
          <p:cNvSpPr/>
          <p:nvPr/>
        </p:nvSpPr>
        <p:spPr>
          <a:xfrm>
            <a:off x="4427640" y="1052640"/>
            <a:ext cx="460836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画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-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合金相图，并标注主要特征点的成分、以及各区的相构成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铁碳合金室温平衡组织是由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构成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硬度低、塑性高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硬而脆，随着含碳量的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量线性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量线性减少，因此随着含碳量的增加，铁碳合金的塑性不断降低，脆性不断增大，韧性不断减小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；硬度不断升高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当含碳量小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，随着含碳量的增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量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量减少，合金的强度逐渐增加，含碳量等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达到最大值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 当含碳量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合金的组织出现网状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Calibri"/>
              </a:rPr>
              <a:t>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在含碳量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1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后出现强度很低的白口铸铁组织，因此使合金的强度不断降低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68"/>
          <p:cNvGrpSpPr/>
          <p:nvPr/>
        </p:nvGrpSpPr>
        <p:grpSpPr>
          <a:xfrm>
            <a:off x="-108000" y="6113520"/>
            <a:ext cx="7531200" cy="484200"/>
            <a:chOff x="-108000" y="6113520"/>
            <a:chExt cx="7531200" cy="484200"/>
          </a:xfrm>
        </p:grpSpPr>
        <p:sp>
          <p:nvSpPr>
            <p:cNvPr id="92" name="AutoShape 85"/>
            <p:cNvSpPr/>
            <p:nvPr/>
          </p:nvSpPr>
          <p:spPr>
            <a:xfrm>
              <a:off x="-108000" y="6113520"/>
              <a:ext cx="75312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84"/>
            <p:cNvSpPr/>
            <p:nvPr/>
          </p:nvSpPr>
          <p:spPr>
            <a:xfrm>
              <a:off x="185760" y="6266880"/>
              <a:ext cx="1980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4" name="AutoShape 83"/>
            <p:cNvCxnSpPr/>
            <p:nvPr/>
          </p:nvCxnSpPr>
          <p:spPr>
            <a:xfrm>
              <a:off x="420840" y="6360840"/>
              <a:ext cx="66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Text Box 82"/>
            <p:cNvSpPr/>
            <p:nvPr/>
          </p:nvSpPr>
          <p:spPr>
            <a:xfrm>
              <a:off x="537120" y="6131520"/>
              <a:ext cx="368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81"/>
            <p:cNvSpPr/>
            <p:nvPr/>
          </p:nvSpPr>
          <p:spPr>
            <a:xfrm>
              <a:off x="1146960" y="6266880"/>
              <a:ext cx="4474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 + 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7" name="AutoShape 80"/>
            <p:cNvCxnSpPr/>
            <p:nvPr/>
          </p:nvCxnSpPr>
          <p:spPr>
            <a:xfrm>
              <a:off x="1549800" y="6360840"/>
              <a:ext cx="6678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" name="Text Box 79"/>
            <p:cNvSpPr/>
            <p:nvPr/>
          </p:nvSpPr>
          <p:spPr>
            <a:xfrm>
              <a:off x="1666440" y="6131520"/>
              <a:ext cx="3679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78"/>
            <p:cNvSpPr/>
            <p:nvPr/>
          </p:nvSpPr>
          <p:spPr>
            <a:xfrm>
              <a:off x="2260800" y="6266880"/>
              <a:ext cx="2487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0" name="AutoShape 77"/>
            <p:cNvCxnSpPr/>
            <p:nvPr/>
          </p:nvCxnSpPr>
          <p:spPr>
            <a:xfrm>
              <a:off x="2392560" y="6360840"/>
              <a:ext cx="66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Text Box 76"/>
            <p:cNvSpPr/>
            <p:nvPr/>
          </p:nvSpPr>
          <p:spPr>
            <a:xfrm>
              <a:off x="2508840" y="6131520"/>
              <a:ext cx="574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5"/>
            <p:cNvSpPr/>
            <p:nvPr/>
          </p:nvSpPr>
          <p:spPr>
            <a:xfrm>
              <a:off x="3111120" y="6266880"/>
              <a:ext cx="398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74"/>
            <p:cNvSpPr/>
            <p:nvPr/>
          </p:nvSpPr>
          <p:spPr>
            <a:xfrm>
              <a:off x="3643920" y="6131520"/>
              <a:ext cx="574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73"/>
            <p:cNvSpPr/>
            <p:nvPr/>
          </p:nvSpPr>
          <p:spPr>
            <a:xfrm>
              <a:off x="4277160" y="6266880"/>
              <a:ext cx="4089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 +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5" name="AutoShape 72"/>
            <p:cNvCxnSpPr/>
            <p:nvPr/>
          </p:nvCxnSpPr>
          <p:spPr>
            <a:xfrm>
              <a:off x="4618440" y="6360840"/>
              <a:ext cx="6678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" name="Text Box 71"/>
            <p:cNvSpPr/>
            <p:nvPr/>
          </p:nvSpPr>
          <p:spPr>
            <a:xfrm>
              <a:off x="4583880" y="6131520"/>
              <a:ext cx="9637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室温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70"/>
            <p:cNvSpPr/>
            <p:nvPr/>
          </p:nvSpPr>
          <p:spPr>
            <a:xfrm>
              <a:off x="5350320" y="6266880"/>
              <a:ext cx="4327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8" name="AutoShape 69"/>
            <p:cNvCxnSpPr/>
            <p:nvPr/>
          </p:nvCxnSpPr>
          <p:spPr>
            <a:xfrm>
              <a:off x="3508920" y="6360840"/>
              <a:ext cx="723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09" name="TextBox 66"/>
          <p:cNvSpPr/>
          <p:nvPr/>
        </p:nvSpPr>
        <p:spPr>
          <a:xfrm>
            <a:off x="34920" y="57355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出从液态到室温过程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钢的结晶过程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324000" y="404640"/>
            <a:ext cx="856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①选择并写出一种材料（只限一种）用于制造船用中、高速柴油机的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连杆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重要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螺栓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曲轴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；②说明应采取何种最终热处理工艺；③室温下可获得的组织是什么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①选材：一般选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碳钢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CrM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合金钢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☚连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选材：一般选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M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碳钢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CrMo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Ni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合金钢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 ☚螺栓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曲轴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热处理：中碳钢采用正火处理，合金钢进行调质处理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室温组织：中碳钢为：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合金钢为回火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’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08000" y="115920"/>
            <a:ext cx="88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下图是共析钢的等温冷却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曲线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种冷却速度曲线，根据曲线：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）说明下图中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点对应的组织；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）指出按照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条冷却速度曲线冷却的热处理工艺名称及得到的室温组织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Object 1"/>
          <p:cNvGraphicFramePr/>
          <p:nvPr/>
        </p:nvGraphicFramePr>
        <p:xfrm>
          <a:off x="179280" y="2276640"/>
          <a:ext cx="2828880" cy="26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28288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4"/>
          <p:cNvSpPr/>
          <p:nvPr/>
        </p:nvSpPr>
        <p:spPr>
          <a:xfrm>
            <a:off x="3059280" y="1746360"/>
            <a:ext cx="59403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马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残余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正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温淬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淬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高温回火（调质）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回火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´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258840" y="1052640"/>
          <a:ext cx="280044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052640"/>
                    <a:ext cx="280044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3"/>
          <p:cNvSpPr/>
          <p:nvPr/>
        </p:nvSpPr>
        <p:spPr>
          <a:xfrm>
            <a:off x="2916360" y="115920"/>
            <a:ext cx="61196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马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残余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珠光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退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珠光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淬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中温回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回火屈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´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温淬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8360" y="53737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画出淬火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+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低温回火曲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08000" y="260280"/>
            <a:ext cx="90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合金元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是提高不锈钢耐蚀性的主要因素，简述其原因。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使钢表面生成一层稳定和致密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2O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氧化膜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提高钢的电极电位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使钢获得单相基体组织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287280" y="3357720"/>
            <a:ext cx="8821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简述巴氏合金的分类及其组织结构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分类：锡基巴氏合金、铅基巴氏合金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组织结构：软基体上分布硬质点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50920" y="260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简述石墨相铸铁与钢相比具有哪些显著的性能特点。（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强度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塑性和韧性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铸造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切削加工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耐磨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良好的消振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较低的缺口敏感性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24000" y="486900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指出碳钢中的两种有害元素？并指出危害？（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，热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，冷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10:56:23Z</dcterms:created>
  <dc:creator>Jing Yu's computer</dc:creator>
  <dc:description/>
  <dc:language>en-US</dc:language>
  <cp:lastModifiedBy>Jing Yu's computer</cp:lastModifiedBy>
  <dcterms:modified xsi:type="dcterms:W3CDTF">2018-04-27T11:37:39Z</dcterms:modified>
  <cp:revision>3</cp:revision>
  <dc:subject/>
  <dc:title>幻灯片 1</dc:title>
</cp:coreProperties>
</file>